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F30-26F0-47C1-848B-C055CA89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4CE-4324-4F36-B0E7-A9EAE4BA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D62-3BBE-43D2-961F-F1FF1E36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E4B-EC8F-4A30-85DD-AA72537C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B5F-373B-4037-A363-8E2F2E2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D62-1074-47C6-BAB6-59D05E4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837-B2DE-4F5A-B4AB-BB21549E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4B0-E16C-470E-8BF7-B88A8B5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792-F67D-4477-9D34-0FE7D803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40-6508-42DF-A3B9-E0B0155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5A6-BE6A-4A4D-8026-0153799A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BEE-CE33-4C5C-ABA5-7C2A9647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C291-21D2-4F7D-9558-7FA1D39C2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42920" y="142920"/>
            <a:ext cx="8786880" cy="6522480"/>
            <a:chOff x="142920" y="142920"/>
            <a:chExt cx="8786880" cy="6522480"/>
          </a:xfrm>
        </p:grpSpPr>
        <p:sp>
          <p:nvSpPr>
            <p:cNvPr id="42" name="TextBox 17"/>
            <p:cNvSpPr/>
            <p:nvPr/>
          </p:nvSpPr>
          <p:spPr>
            <a:xfrm>
              <a:off x="1928880" y="357120"/>
              <a:ext cx="4429080" cy="112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The Big  Ide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ople make links and develop feelings for special plac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eliefs, values and past experiences impact on  our perceptions of  why places are spe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ople and places change over tim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pecial places can influence people</a:t>
              </a:r>
              <a:r>
                <a:rPr b="0" lang="en-NZ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15"/>
            <p:cNvSpPr/>
            <p:nvPr/>
          </p:nvSpPr>
          <p:spPr>
            <a:xfrm>
              <a:off x="2786040" y="1581120"/>
              <a:ext cx="3000240" cy="276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The context is:  </a:t>
              </a:r>
              <a:r>
                <a:rPr b="1" lang="en-NZ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pecial Pl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40"/>
            <p:cNvSpPr/>
            <p:nvPr/>
          </p:nvSpPr>
          <p:spPr>
            <a:xfrm>
              <a:off x="4143600" y="4143600"/>
              <a:ext cx="2143080" cy="246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Engagement, Relevance and Motiv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How do we start or continue the learning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Revisit previous learning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20"/>
            <p:cNvSpPr/>
            <p:nvPr/>
          </p:nvSpPr>
          <p:spPr>
            <a:xfrm>
              <a:off x="6429600" y="142920"/>
              <a:ext cx="2500200" cy="301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Curriculum Connection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Social Sci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English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Listening, reading and view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Speaking, writing, and presen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The Arts: Music – Sound A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Developing Practical Knowled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Communicating and Interpr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</a:rPr>
                <a:t>Vis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Connect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</a:rPr>
                <a:t>Principles</a:t>
              </a: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Treaty of Waitang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Cultural Diver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Inclu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Learning to Lear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0000"/>
                  </a:solidFill>
                  <a:latin typeface="Calibri"/>
                </a:rPr>
                <a:t>Community Enga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23"/>
            <p:cNvSpPr/>
            <p:nvPr/>
          </p:nvSpPr>
          <p:spPr>
            <a:xfrm>
              <a:off x="6429600" y="3286080"/>
              <a:ext cx="2500200" cy="337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Key Questions and Inqui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What makes a place special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Student led inquir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200" spc="-1" strike="noStrike">
                  <a:solidFill>
                    <a:srgbClr val="000000"/>
                  </a:solidFill>
                  <a:latin typeface="Calibri"/>
                </a:rPr>
                <a:t>Teacher guided inquir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8"/>
            <p:cNvSpPr/>
            <p:nvPr/>
          </p:nvSpPr>
          <p:spPr>
            <a:xfrm>
              <a:off x="1928880" y="1901880"/>
              <a:ext cx="4429080" cy="2148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Key Learning: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The students will learn how people perceive, represent, interpret and interact with special places(p.30 NZC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Students develop their understanding and acceptance that different people may have different values from their ow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Students develop a respect for protocols attached to special places.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Key Concepts and understandings: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Everybody has a set of valu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</a:rPr>
                <a:t>There are different kinds of values such as cultural, aesthetic, and social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b050"/>
                  </a:solidFill>
                  <a:latin typeface="Calibri"/>
                  <a:ea typeface="Arial"/>
                </a:rPr>
                <a:t>Skills, attitudes and competenci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bserving, listening, asking questions, forming opinions, explaining and justifying ideas, informing other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nking, Participating, Using Languages, Symbols and Tex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22"/>
            <p:cNvSpPr/>
            <p:nvPr/>
          </p:nvSpPr>
          <p:spPr>
            <a:xfrm>
              <a:off x="142920" y="142920"/>
              <a:ext cx="1714320" cy="3744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Success Criteria and Assessment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What does the learning look lik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4"/>
            <p:cNvSpPr/>
            <p:nvPr/>
          </p:nvSpPr>
          <p:spPr>
            <a:xfrm>
              <a:off x="142920" y="4143600"/>
              <a:ext cx="3786120" cy="246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b050"/>
                  </a:solidFill>
                  <a:latin typeface="Calibri"/>
                </a:rPr>
                <a:t>Overarching Learning Intention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200" spc="-1" strike="noStrike">
                  <a:solidFill>
                    <a:srgbClr val="0070c0"/>
                  </a:solidFill>
                  <a:latin typeface="Calibri"/>
                </a:rPr>
                <a:t>What do we want our kids to actually lear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1"/>
          <p:cNvSpPr/>
          <p:nvPr/>
        </p:nvSpPr>
        <p:spPr>
          <a:xfrm>
            <a:off x="2786040" y="7128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raft Planning -  Term 4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01:59:57Z</dcterms:created>
  <dc:creator>loveless</dc:creator>
  <dc:description/>
  <dc:language>en-US</dc:language>
  <cp:lastModifiedBy>maryjam</cp:lastModifiedBy>
  <dcterms:modified xsi:type="dcterms:W3CDTF">2011-01-09T20:29:33Z</dcterms:modified>
  <cp:revision>32</cp:revision>
  <dc:subject/>
  <dc:title>Slide 1</dc:title>
</cp:coreProperties>
</file>